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14C1-9E90-4494-9384-66112C192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6851-27DA-4EB5-B2E9-1946D92CF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071B-6302-40D6-B9B2-B4AFB3086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208E-67C9-4CC8-9553-D1FECC241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44D9-1C4E-48D3-AA21-C8EA1A51B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A46A-EAEA-4E9E-8493-6BF0D7BE7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29E2-939C-4F5D-8E51-61FD75BC3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EA49-B1AC-4219-B9C6-39FBA3678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8A9D-9269-44F1-8257-CA29F6902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AA7D-2AAC-408C-B99E-4EAEF05A2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0791-9F2D-4F5B-B981-F4F3AA493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7E36-A57C-467E-B48E-402CB67B7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6CAA-F8DD-4699-9E8A-4D177C1F9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133B-CCC0-4E8B-9208-EF50C2F3A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30F7-8680-44DF-82DE-F9E1A9675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D08E-8676-4EEF-9559-7FADF34E8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B241-4F2C-4773-930C-84C81007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5C47-48C6-49AA-8DDC-C7460979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D320-20BA-46BE-BD8E-A623D4DF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D73A-9A37-43B7-8012-ABAE761C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B3ED-7EAC-4372-8CB5-8C3D629A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6A71-2877-4712-9558-99B5CA6A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2828-02E1-4541-B42E-CE6B41ED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09C2-1BCC-4E17-AD2B-2033027B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1358-73A2-4CAC-A97B-9295F6D8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48E9-5566-4473-BEAE-0D8C822E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8B86-A287-4EA5-BCBE-AED082C5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E8F0-2406-458D-BC29-D5B47135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8C78-D255-4F79-AB79-45931A9E4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7314840"/>
            <a:ext cx="365760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</a:rPr>
              <a:t>ぽに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ponyo title"/>
          <p:cNvPicPr/>
          <p:nvPr/>
        </p:nvPicPr>
        <p:blipFill>
          <a:blip r:embed="rId1"/>
          <a:srcRect l="0" t="0" r="0" b="26247"/>
          <a:stretch/>
        </p:blipFill>
        <p:spPr>
          <a:xfrm>
            <a:off x="0" y="-1600200"/>
            <a:ext cx="6829560" cy="79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-533880" y="69339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これ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　は　そすけさん　で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そすけさん　は　５さい　で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sosukei 2"/>
          <p:cNvPicPr/>
          <p:nvPr/>
        </p:nvPicPr>
        <p:blipFill>
          <a:blip r:embed="rId1"/>
          <a:stretch/>
        </p:blipFill>
        <p:spPr>
          <a:xfrm>
            <a:off x="-1219320" y="1371600"/>
            <a:ext cx="87631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533880" y="69339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そすけさん　は　おとこのこ　で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sosukei"/>
          <p:cNvPicPr/>
          <p:nvPr/>
        </p:nvPicPr>
        <p:blipFill>
          <a:blip r:embed="rId1"/>
          <a:srcRect l="47244" t="0" r="17717" b="0"/>
          <a:stretch/>
        </p:blipFill>
        <p:spPr>
          <a:xfrm>
            <a:off x="1371600" y="304920"/>
            <a:ext cx="4289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-533880" y="69339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うち　に　すんで　います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osukei's home 2"/>
          <p:cNvPicPr/>
          <p:nvPr/>
        </p:nvPicPr>
        <p:blipFill>
          <a:blip r:embed="rId1"/>
          <a:stretch/>
        </p:blipFill>
        <p:spPr>
          <a:xfrm>
            <a:off x="0" y="0"/>
            <a:ext cx="91440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-533880" y="69339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これ　は　おかあさん　で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sasukei and mother"/>
          <p:cNvPicPr/>
          <p:nvPr/>
        </p:nvPicPr>
        <p:blipFill>
          <a:blip r:embed="rId1"/>
          <a:stretch/>
        </p:blipFill>
        <p:spPr>
          <a:xfrm>
            <a:off x="0" y="2286000"/>
            <a:ext cx="708660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-305280" y="7010280"/>
            <a:ext cx="7867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これ　は　おとうさん　で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sosukei's father 2"/>
          <p:cNvPicPr/>
          <p:nvPr/>
        </p:nvPicPr>
        <p:blipFill>
          <a:blip r:embed="rId1"/>
          <a:stretch/>
        </p:blipFill>
        <p:spPr>
          <a:xfrm>
            <a:off x="0" y="2133720"/>
            <a:ext cx="784872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-305280" y="7010280"/>
            <a:ext cx="7867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さすけさん　と</a:t>
            </a:r>
            <a:r>
              <a:rPr b="0" lang="en-AU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　ぽに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は　ともだち　です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ponyo and sasuke 6"/>
          <p:cNvPicPr/>
          <p:nvPr/>
        </p:nvPicPr>
        <p:blipFill>
          <a:blip r:embed="rId1"/>
          <a:stretch/>
        </p:blipFill>
        <p:spPr>
          <a:xfrm>
            <a:off x="-990720" y="1447920"/>
            <a:ext cx="807732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6705360"/>
            <a:ext cx="58863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これ　は　ぽ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にょ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　で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ponyo"/>
          <p:cNvPicPr/>
          <p:nvPr/>
        </p:nvPicPr>
        <p:blipFill>
          <a:blip r:embed="rId1"/>
          <a:stretch/>
        </p:blipFill>
        <p:spPr>
          <a:xfrm>
            <a:off x="0" y="0"/>
            <a:ext cx="6858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4080" y="7010280"/>
            <a:ext cx="63435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ぽによ　は　さかな　で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763640" y="225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ponyo 5"/>
          <p:cNvPicPr/>
          <p:nvPr/>
        </p:nvPicPr>
        <p:blipFill>
          <a:blip r:embed="rId1"/>
          <a:stretch/>
        </p:blipFill>
        <p:spPr>
          <a:xfrm>
            <a:off x="-1143000" y="1371600"/>
            <a:ext cx="87631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0520" y="67816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うみ　に　すんで　います。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ocean"/>
          <p:cNvPicPr/>
          <p:nvPr/>
        </p:nvPicPr>
        <p:blipFill>
          <a:blip r:embed="rId1"/>
          <a:stretch/>
        </p:blipFill>
        <p:spPr>
          <a:xfrm>
            <a:off x="0" y="1219320"/>
            <a:ext cx="685800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8240" y="7162920"/>
            <a:ext cx="6343560" cy="16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ぽにょ　は　ちいさい　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n the sea 2"/>
          <p:cNvPicPr/>
          <p:nvPr/>
        </p:nvPicPr>
        <p:blipFill>
          <a:blip r:embed="rId1"/>
          <a:stretch/>
        </p:blipFill>
        <p:spPr>
          <a:xfrm>
            <a:off x="1371600" y="0"/>
            <a:ext cx="436248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-360" y="6857640"/>
            <a:ext cx="76201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ぽにょ　は　かわいい　で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ponyo 8"/>
          <p:cNvPicPr/>
          <p:nvPr/>
        </p:nvPicPr>
        <p:blipFill>
          <a:blip r:embed="rId1"/>
          <a:stretch/>
        </p:blipFill>
        <p:spPr>
          <a:xfrm>
            <a:off x="-914400" y="609480"/>
            <a:ext cx="830592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380880" y="6934320"/>
            <a:ext cx="761976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はむ　が　すき　です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ponyo and ham3"/>
          <p:cNvPicPr/>
          <p:nvPr/>
        </p:nvPicPr>
        <p:blipFill>
          <a:blip r:embed="rId1"/>
          <a:srcRect l="0" t="0" r="50293" b="0"/>
          <a:stretch/>
        </p:blipFill>
        <p:spPr>
          <a:xfrm>
            <a:off x="0" y="0"/>
            <a:ext cx="685800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80880" y="6934320"/>
            <a:ext cx="761976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て　が　ほしい　です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あし　が　ほしい　です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Ponyo with arms an legs"/>
          <p:cNvPicPr/>
          <p:nvPr/>
        </p:nvPicPr>
        <p:blipFill>
          <a:blip r:embed="rId1"/>
          <a:stretch/>
        </p:blipFill>
        <p:spPr>
          <a:xfrm>
            <a:off x="0" y="1752480"/>
            <a:ext cx="685800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05280" y="7010280"/>
            <a:ext cx="7867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ぽにょ　は　おんなのこ　に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なりまし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ponyo 4"/>
          <p:cNvPicPr/>
          <p:nvPr/>
        </p:nvPicPr>
        <p:blipFill>
          <a:blip r:embed="rId1"/>
          <a:stretch/>
        </p:blipFill>
        <p:spPr>
          <a:xfrm>
            <a:off x="-1295280" y="0"/>
            <a:ext cx="1257300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00:15:40Z</dcterms:created>
  <dc:creator>Department of Education - Victoria</dc:creator>
  <dc:description/>
  <dc:language>en-US</dc:language>
  <cp:lastModifiedBy>DEECD</cp:lastModifiedBy>
  <cp:lastPrinted>2010-06-22T00:00:16Z</cp:lastPrinted>
  <dcterms:modified xsi:type="dcterms:W3CDTF">2011-03-30T05:13:18Z</dcterms:modified>
  <cp:revision>4</cp:revision>
  <dc:subject/>
  <dc:title>ぽんよ</dc:title>
</cp:coreProperties>
</file>